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move the slide</a:t>
            </a:r>
            <a:endParaRPr b="0" lang="en-US" sz="4200" spc="-1" strike="noStrike">
              <a:solidFill>
                <a:srgbClr val="99f166"/>
              </a:solidFill>
              <a:latin typeface="Century Gothic"/>
            </a:endParaRPr>
          </a:p>
        </p:txBody>
      </p:sp>
      <p:sp>
        <p:nvSpPr>
          <p:cNvPr id="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0"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A9BC3-042E-4EC1-8BCE-39E1F1742FC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D9CAB-B47B-43A2-BF2A-FDC823135CCE}"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ED7CA-66D2-4147-B216-24CA7852DEE6}"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CC85E6-3300-4EA6-97D0-43B2E8F061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AA767-7EFE-4900-8E93-5F1D44445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9840EF-2BB4-4392-ADFF-520ADE2BF4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759165-0F7E-43E5-8062-F4D64CB62E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3C194C-37D8-4597-8188-192FF98DC5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0DB2DF-5330-4237-B204-8E5B952EF4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AE2D42-8BD4-4FAC-B8C5-BD8DE735EF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B8EB56-B4F2-4195-BCF6-CF1ECBDE82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5FA97C-730D-4C79-800D-D44BF86F70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9C4CC7-CCC1-45EA-BA31-D2C4CA4BDF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4985F-85EB-4F65-BC06-35AD6794C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51880-B173-4735-9232-BF3772805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72DFF-2D43-4DBE-A4DB-0343540DE8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3A9140-5A60-4725-8720-9CC037500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18570C-49C1-4534-BBC1-2B3C085001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BD46F8-1A83-4FE2-93A7-E7BF058672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D25A23-6EC0-4F3A-9962-6E818DA939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9EC05A-533D-4E60-8C29-BE69FE1120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90301A-3728-4296-9D0A-39D223DFB5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E80324-D4C9-4578-9513-CEE64F9969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446FC2-2C56-4B99-84FD-7BEADC7D3D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80C00F-DD86-41EB-8599-2C9B19FB61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1E12E-71D9-4C1B-BC16-6344389F6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84FB52-17B9-4C48-9239-02562CB767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E95856-DD6A-4EE3-9870-AF9D04B8B1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5A1ECB-B33A-40FF-A71B-DEDDA186DD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F1E48D-8CD5-47A7-885B-8746396C2F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F0E066-E45A-4A09-B407-27D1D66543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B90E61-E6ED-42A9-B77B-97EF484501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6A6BB6-91E9-4667-9FDD-FF92043AA4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B8CEB7-7321-47C6-ADCF-25CE36F3DC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EC50B5-9A2B-4F88-A72E-4D4C81831B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82CCA7-6102-4439-ABAD-3749E3C09F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E1F56-CF74-4566-96AA-BDEFF2CB2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B73FF5-37ED-4E94-94D0-C30388ABA8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1D58DE-9095-41FC-A381-E949F9AC9D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6382A5-BF54-4FF1-BD02-C39F983CF8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69221D-263E-4480-83E3-28254A7A1E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889388-3A1F-4369-974C-0A1BBEC38D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A294F8-C5D3-4499-81F6-12BCAD7A1B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3FEBC4-BB26-4245-9853-CD017336D8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FE3205-E248-47B5-9F83-2CB0F8B23A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86D658-572B-4ED1-A169-42FC28B545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966EF1-7671-4BA6-95FE-11CC6FB850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FC993-9505-4D1F-B2BA-FC94133C1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8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16CCEC-36D8-4A73-89D9-F37E6A02EE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8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E07049-0AEC-4577-85D3-D3F48D6260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A9AC62-D0EA-46ED-A249-B7BE2F4FBC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72D4C4-CAA8-40EF-93EF-146DABAF2E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2E48DB-E03D-43BA-8932-8C2FF4FB4C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9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96CD28-D3F8-48AF-AE1A-58D0ACED27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0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7B598A-8FC7-461B-8AC0-EE68AE1C95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0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55A73D-3FA8-486B-BC69-FF444ED330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0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82DA9F-D1CD-4649-AFBF-BB52049186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1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2B73BA-4300-49B4-B210-B8746C4868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1D4DB-20B6-4308-9384-36BFB11F5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1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D597B7-02FA-4BA9-A4A6-B14A1F63A2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7728E8C-E2EF-43C4-B305-2397423D0D7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2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39DEAF-CCBC-4C86-8E31-01C7E74403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3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00A0CB-B108-4A70-AD3A-0F38A84E52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3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43EEAD-7F96-48AD-8D34-3CFCFCF7BC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115025-CE0D-4064-9D48-C1CB45BFEE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B519C5-F206-4C9B-BB2E-C25E8E6CA5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3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CA5A65-779D-4712-8E60-FBF4D1F6B1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4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43A9E4-22E4-4779-8A7C-9CB42A2B8A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4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70CD1B-B271-462B-8BFD-302365F2DE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463C5-7D2C-49BC-B565-A58D5ECAF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4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2C1F4D-C1C7-4079-A7C1-9CB01E11EE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D52A59C-6537-432E-9D55-3097CA2068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5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F38C6D5-742B-4A85-811F-7AF35E5DFB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E4B7649-1B53-44CB-8CB1-055D4C9D27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6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D60AFB-B8F1-47EA-BBC9-1A8C070ED7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7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F05926-78F9-4FDA-84CF-54ECE046DA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7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3369A5-70CA-47F4-8EFD-624C00F475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D94A00-309F-4644-B928-6B2AD528C8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DBFB76-8549-4AB0-9DDB-A01294CC4F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AE4E80-6986-4823-BDDA-C62F78A0A9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F4608-E84B-487D-959F-617940808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5814AA-D438-4EAA-A634-55904DCDF0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8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217221-E1E8-42FC-BC6A-E0FB9FC741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9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8CEBB1-49EF-4B96-9676-190B4BCDBA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A71115C-973E-4B43-B69D-F741D4595C4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9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6B2BF9E-2202-4B12-9B5E-D812F848CF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66FF5C7-0052-42A0-B318-8C61F775594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1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F37099-4653-4A65-AC59-D2D707EBD2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1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E36478-953E-4F0C-9AB8-BB36C3F428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1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3096F6-E390-4FAC-9DEF-906B8B5238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A53B9C-C6D7-4A6A-BE8E-1F80253BB1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8CD30-B8FE-4515-8895-263EC8146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CA1DE2-FE6E-43B3-991A-EF0F6CE757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1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B40FA7-5C94-43B3-9F1F-91924A50AF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2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6FFB0D-4BA8-4AAD-AB41-634F26E32B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2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0A54E9-3ACA-403E-A981-E7875730DA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3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98F711-0095-48ED-A27E-659FE62CCF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A7ED084-6DF2-4C99-9D9B-33C02D52006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3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0811C1D-3788-4151-A852-04B1998BAC2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Straight Connector 7"/>
          <p:cNvSpPr/>
          <p:nvPr/>
        </p:nvSpPr>
        <p:spPr>
          <a:xfrm>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Straight Connector 8"/>
          <p:cNvSpPr/>
          <p:nvPr/>
        </p:nvSpPr>
        <p:spPr>
          <a:xfrm flipH="1">
            <a:off x="6469200" y="494748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58E22-6C6A-4914-BD04-5C7E7FFD65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Straight Connector 7"/>
          <p:cNvSpPr/>
          <p:nvPr/>
        </p:nvSpPr>
        <p:spPr>
          <a:xfrm>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Straight Connector 8"/>
          <p:cNvSpPr/>
          <p:nvPr/>
        </p:nvSpPr>
        <p:spPr>
          <a:xfrm flipH="1">
            <a:off x="6469200" y="494748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459205"/>
              </a:gs>
              <a:gs pos="100000">
                <a:srgbClr val="a7ff79"/>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F07F6-7EB2-4A8C-8F7E-477B8540898E}" type="slidenum">
              <a:rPr b="0" lang="en-U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Straight Connector 7"/>
          <p:cNvSpPr/>
          <p:nvPr/>
        </p:nvSpPr>
        <p:spPr>
          <a:xfrm>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Straight Connector 8"/>
          <p:cNvSpPr/>
          <p:nvPr/>
        </p:nvSpPr>
        <p:spPr>
          <a:xfrm flipH="1">
            <a:off x="6469200" y="494748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5973F-859E-4AC9-9A85-4977FF4E9D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459205"/>
              </a:gs>
              <a:gs pos="100000">
                <a:srgbClr val="a7ff79"/>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Straight Connector 14"/>
          <p:cNvSpPr/>
          <p:nvPr/>
        </p:nvSpPr>
        <p:spPr>
          <a:xfrm flipH="1" flipV="1">
            <a:off x="6469200" y="900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Straight Connector 15"/>
          <p:cNvSpPr/>
          <p:nvPr/>
        </p:nvSpPr>
        <p:spPr>
          <a:xfrm flipV="1">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03A70-4E6A-4E41-9D73-E66FC241A7A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178" name="Right Triangle 10"/>
          <p:cNvSpPr/>
          <p:nvPr/>
        </p:nvSpPr>
        <p:spPr>
          <a:xfrm>
            <a:off x="6480" y="1440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Straight Connector 7"/>
          <p:cNvSpPr/>
          <p:nvPr/>
        </p:nvSpPr>
        <p:spPr>
          <a:xfrm>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Straight Connector 8"/>
          <p:cNvSpPr/>
          <p:nvPr/>
        </p:nvSpPr>
        <p:spPr>
          <a:xfrm flipH="1">
            <a:off x="6469200" y="494748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182"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3" name="PlaceHolder 3"/>
          <p:cNvSpPr>
            <a:spLocks noGrp="1"/>
          </p:cNvSpPr>
          <p:nvPr>
            <p:ph type="dt" idx="13"/>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PlaceHolder 4"/>
          <p:cNvSpPr>
            <a:spLocks noGrp="1"/>
          </p:cNvSpPr>
          <p:nvPr>
            <p:ph type="ftr" idx="14"/>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PlaceHolder 5"/>
          <p:cNvSpPr>
            <a:spLocks noGrp="1"/>
          </p:cNvSpPr>
          <p:nvPr>
            <p:ph type="sldNum" idx="15"/>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7CB9D-2E69-49B5-A819-FFB64036F6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22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4" name="PlaceHolder 3"/>
          <p:cNvSpPr>
            <a:spLocks noGrp="1"/>
          </p:cNvSpPr>
          <p:nvPr>
            <p:ph type="dt" idx="16"/>
          </p:nvPr>
        </p:nvSpPr>
        <p:spPr>
          <a:xfrm>
            <a:off x="4790880" y="6481800"/>
            <a:ext cx="21301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4"/>
          <p:cNvSpPr>
            <a:spLocks noGrp="1"/>
          </p:cNvSpPr>
          <p:nvPr>
            <p:ph type="ftr" idx="17"/>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8"/>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5359A-3FEA-470E-B561-7F887876ED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26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5" name="PlaceHolder 3"/>
          <p:cNvSpPr>
            <a:spLocks noGrp="1"/>
          </p:cNvSpPr>
          <p:nvPr>
            <p:ph type="dt" idx="19"/>
          </p:nvPr>
        </p:nvSpPr>
        <p:spPr>
          <a:xfrm>
            <a:off x="6278040" y="6556320"/>
            <a:ext cx="21337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PlaceHolder 4"/>
          <p:cNvSpPr>
            <a:spLocks noGrp="1"/>
          </p:cNvSpPr>
          <p:nvPr>
            <p:ph type="ftr" idx="20"/>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21"/>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C23DC-8274-48B3-A5DD-F6605D4B60B5}"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30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06" name="PlaceHolder 3"/>
          <p:cNvSpPr>
            <a:spLocks noGrp="1"/>
          </p:cNvSpPr>
          <p:nvPr>
            <p:ph type="dt" idx="22"/>
          </p:nvPr>
        </p:nvSpPr>
        <p:spPr>
          <a:xfrm>
            <a:off x="6108840" y="6556320"/>
            <a:ext cx="21016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PlaceHolder 4"/>
          <p:cNvSpPr>
            <a:spLocks noGrp="1"/>
          </p:cNvSpPr>
          <p:nvPr>
            <p:ph type="ftr" idx="23"/>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PlaceHolder 5"/>
          <p:cNvSpPr>
            <a:spLocks noGrp="1"/>
          </p:cNvSpPr>
          <p:nvPr>
            <p:ph type="sldNum" idx="24"/>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8BEDB-C37A-4E46-BECD-33A98736F539}" type="slidenum">
              <a:rPr b="0" lang="en-U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Rectangle 2" descr=""/>
          <p:cNvPicPr/>
          <p:nvPr/>
        </p:nvPicPr>
        <p:blipFill>
          <a:blip r:embed="rId1"/>
          <a:stretch/>
        </p:blipFill>
        <p:spPr>
          <a:xfrm>
            <a:off x="536400" y="768240"/>
            <a:ext cx="8326440" cy="1481400"/>
          </a:xfrm>
          <a:prstGeom prst="rect">
            <a:avLst/>
          </a:prstGeom>
          <a:ln w="0">
            <a:noFill/>
          </a:ln>
        </p:spPr>
      </p:pic>
      <p:pic>
        <p:nvPicPr>
          <p:cNvPr id="353" name="Rectangle 3" descr=""/>
          <p:cNvPicPr/>
          <p:nvPr/>
        </p:nvPicPr>
        <p:blipFill>
          <a:blip r:embed="rId2"/>
          <a:stretch/>
        </p:blipFill>
        <p:spPr>
          <a:xfrm>
            <a:off x="536400" y="2170080"/>
            <a:ext cx="8174160" cy="1841400"/>
          </a:xfrm>
          <a:prstGeom prst="rect">
            <a:avLst/>
          </a:prstGeom>
          <a:ln w="0">
            <a:noFill/>
          </a:ln>
        </p:spPr>
      </p:pic>
    </p:spTree>
  </p:cSld>
  <p:transition>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 Box 4"/>
          <p:cNvSpPr/>
          <p:nvPr/>
        </p:nvSpPr>
        <p:spPr>
          <a:xfrm>
            <a:off x="4343400" y="4572000"/>
            <a:ext cx="3886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AutoShape 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AutoShape 1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AutoShape 12"/>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AutoShape 1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AutoShape 1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AutoShape 1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62" name="Picture 20" descr="http://www.mes-vacances.ch/images/photos/7897.jpg"/>
          <p:cNvPicPr/>
          <p:nvPr/>
        </p:nvPicPr>
        <p:blipFill>
          <a:blip r:embed="rId1"/>
          <a:stretch/>
        </p:blipFill>
        <p:spPr>
          <a:xfrm>
            <a:off x="2209680" y="152280"/>
            <a:ext cx="4057920" cy="3048120"/>
          </a:xfrm>
          <a:prstGeom prst="rect">
            <a:avLst/>
          </a:prstGeom>
          <a:ln w="0">
            <a:noFill/>
          </a:ln>
        </p:spPr>
      </p:pic>
      <p:sp>
        <p:nvSpPr>
          <p:cNvPr id="363" name="TextBox 12"/>
          <p:cNvSpPr/>
          <p:nvPr/>
        </p:nvSpPr>
        <p:spPr>
          <a:xfrm>
            <a:off x="1523880" y="3505320"/>
            <a:ext cx="63248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hers</a:t>
            </a:r>
            <a:r>
              <a:rPr b="0" lang="en-US" sz="1800" spc="-1" strike="noStrike">
                <a:solidFill>
                  <a:srgbClr val="ffffff"/>
                </a:solidFill>
                <a:latin typeface="Arial"/>
              </a:rPr>
              <a:t> </a:t>
            </a:r>
            <a:r>
              <a:rPr b="0" lang="fr-FR" sz="1800" spc="-1" strike="noStrike">
                <a:solidFill>
                  <a:srgbClr val="ffffff"/>
                </a:solidFill>
                <a:latin typeface="Arial"/>
              </a:rPr>
              <a:t>Maman</a:t>
            </a:r>
            <a:r>
              <a:rPr b="0" lang="en-US" sz="1800" spc="-1" strike="noStrike">
                <a:solidFill>
                  <a:srgbClr val="ffffff"/>
                </a:solidFill>
                <a:latin typeface="Arial"/>
              </a:rPr>
              <a:t> et Pap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njour! </a:t>
            </a:r>
            <a:r>
              <a:rPr b="0" lang="fr-FR" sz="1800" spc="-1" strike="noStrike">
                <a:solidFill>
                  <a:srgbClr val="ffffff"/>
                </a:solidFill>
                <a:latin typeface="Arial"/>
              </a:rPr>
              <a:t>Aujourd’hui</a:t>
            </a:r>
            <a:r>
              <a:rPr b="0" lang="en-US" sz="1800" spc="-1" strike="noStrike">
                <a:solidFill>
                  <a:srgbClr val="ffffff"/>
                </a:solidFill>
                <a:latin typeface="Arial"/>
              </a:rPr>
              <a:t>, je </a:t>
            </a:r>
            <a:r>
              <a:rPr b="0" lang="fr-FR" sz="1800" spc="-1" strike="noStrike">
                <a:solidFill>
                  <a:srgbClr val="ffffff"/>
                </a:solidFill>
                <a:latin typeface="Arial"/>
              </a:rPr>
              <a:t>suis</a:t>
            </a:r>
            <a:r>
              <a:rPr b="0" lang="en-US" sz="1800" spc="-1" strike="noStrike">
                <a:solidFill>
                  <a:srgbClr val="ffffff"/>
                </a:solidFill>
                <a:latin typeface="Arial"/>
              </a:rPr>
              <a:t> </a:t>
            </a:r>
            <a:r>
              <a:rPr b="0" lang="fr-FR" sz="1800" spc="-1" strike="noStrike">
                <a:solidFill>
                  <a:srgbClr val="ffffff"/>
                </a:solidFill>
                <a:latin typeface="Arial"/>
              </a:rPr>
              <a:t>arrivée à Sainte Luce, Martinique. J’ai fait enregistré à mon hôtel, Hôtel Pierre &amp; Vacances. Après ça, je suis allée nager à la mer. Aussi, j’ai bronzé. Aujourd’hui, je n’ai jamais quitté la station balnéaire. J’ai vu Justin Bieber à mon hôtel! Je vous recommande cet hôtel. Je n’ai pas vu Inna. Je n’ai jamais vu Diamond Falls. Je suis allée Boudreau pour déjeuner. J’ai acheté un t-shirt. Je m’occupée demain! Au revo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Meghan </a:t>
            </a: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Picture 2" descr="C:\Users\Meghan\AppData\Local\Microsoft\Windows\Temporary Internet Files\Low\Content.IE5\FAHIV9DC\WhaleWatching1[1].jpg"/>
          <p:cNvPicPr/>
          <p:nvPr/>
        </p:nvPicPr>
        <p:blipFill>
          <a:blip r:embed="rId1"/>
          <a:stretch/>
        </p:blipFill>
        <p:spPr>
          <a:xfrm>
            <a:off x="1905120" y="152280"/>
            <a:ext cx="4647960" cy="3090960"/>
          </a:xfrm>
          <a:prstGeom prst="rect">
            <a:avLst/>
          </a:prstGeom>
          <a:ln w="0">
            <a:noFill/>
          </a:ln>
        </p:spPr>
      </p:pic>
      <p:sp>
        <p:nvSpPr>
          <p:cNvPr id="365" name="TextBox 3"/>
          <p:cNvSpPr/>
          <p:nvPr/>
        </p:nvSpPr>
        <p:spPr>
          <a:xfrm>
            <a:off x="1447920" y="3657600"/>
            <a:ext cx="60958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hère Mama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alut! Aujourd’hui, je suis allée chercher-baleine. Je suis allée sur un catamaran. J’y suis allée pour trois heures. Sur le catamaran, j’ai vu Brenna. Je n’ai pas vu Taylor Swift. Après ça, je suis allée à la plage. J’ai pris des leçons de la planche à voile. Je n’ai jamais vu un requin. J’ai un autre leçon demain. Je suis excité!  Je suis allée Château Mygo pour diner. Je vous recommande ce restaurant. J’ai acheté une porte-clés. Au revo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Meghan</a:t>
            </a:r>
            <a:endParaRPr b="0" lang="en-US" sz="1800" spc="-1" strike="noStrike">
              <a:solidFill>
                <a:srgbClr val="ffffff"/>
              </a:solidFill>
              <a:latin typeface="Arial"/>
            </a:endParaRPr>
          </a:p>
        </p:txBody>
      </p:sp>
    </p:spTree>
  </p:cSld>
  <p:transition>
    <p:comb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3" descr="C:\Users\Meghan\AppData\Local\Microsoft\Windows\Temporary Internet Files\Low\Content.IE5\FAHIV9DC\cruise[1].jpg"/>
          <p:cNvPicPr/>
          <p:nvPr/>
        </p:nvPicPr>
        <p:blipFill>
          <a:blip r:embed="rId1"/>
          <a:stretch/>
        </p:blipFill>
        <p:spPr>
          <a:xfrm>
            <a:off x="2133720" y="152280"/>
            <a:ext cx="4662360" cy="3124440"/>
          </a:xfrm>
          <a:prstGeom prst="rect">
            <a:avLst/>
          </a:prstGeom>
          <a:ln w="0">
            <a:noFill/>
          </a:ln>
        </p:spPr>
      </p:pic>
      <p:sp>
        <p:nvSpPr>
          <p:cNvPr id="367" name="TextBox 3"/>
          <p:cNvSpPr/>
          <p:nvPr/>
        </p:nvSpPr>
        <p:spPr>
          <a:xfrm>
            <a:off x="1447920" y="3441600"/>
            <a:ext cx="60195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her Pap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alut! Je me suis occupée aujourd’hui. Ce matin, j’ai pris mon leçon seconde de planche à voile. Après ça, j’ai fait une croisière de Martinique sur un catamaran. Cette, j’ai fait le shopping et fait du plongée libre à Castries, la capitale. Je n’ai pas vu Isabel, et j’ai vu Taylor Swift! Je vous recommande cette croisière.  Je suis allée The Coal Pot, un restaurant à Castries. J’ai acheté des vêtements à Castries. Je n’ai jamais vu Les Pitons. Je voudrais voir les montagnes demain. Au revo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Meghan</a:t>
            </a:r>
            <a:endParaRPr b="0" lang="en-US" sz="1800" spc="-1" strike="noStrike">
              <a:solidFill>
                <a:srgbClr val="ffffff"/>
              </a:solidFill>
              <a:latin typeface="Arial"/>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2" descr="C:\Users\Meghan\AppData\Local\Microsoft\Windows\Temporary Internet Files\Low\Content.IE5\K7HSFZD5\postcard[1].jpg"/>
          <p:cNvPicPr/>
          <p:nvPr/>
        </p:nvPicPr>
        <p:blipFill>
          <a:blip r:embed="rId1"/>
          <a:stretch/>
        </p:blipFill>
        <p:spPr>
          <a:xfrm>
            <a:off x="2209680" y="228600"/>
            <a:ext cx="4305600" cy="3228840"/>
          </a:xfrm>
          <a:prstGeom prst="rect">
            <a:avLst/>
          </a:prstGeom>
          <a:ln w="0">
            <a:noFill/>
          </a:ln>
        </p:spPr>
      </p:pic>
      <p:sp>
        <p:nvSpPr>
          <p:cNvPr id="369" name="TextBox 3"/>
          <p:cNvSpPr/>
          <p:nvPr/>
        </p:nvSpPr>
        <p:spPr>
          <a:xfrm>
            <a:off x="1523880" y="3809880"/>
            <a:ext cx="57913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hère Inn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alut! Aujourd’hui, j’ai voulu Les Pitons. Aussi, je suis allée à la plage. Ensuite, j’ai fait du kayak de mer. Je n’ai jamais vu Guadaloupe. Je n’ai pas vu Olivia, et j’ai vu « One Direction ». Aussi, à la plage, je suis allée sur un jet ski. Je me suis amusée! Je suis allée The Charthouse pour diner. Je vous recommande ce restaurant. J’ai acheté un sweat-shirt. Je vais partir après deux jours plus. A bientô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Meghan</a:t>
            </a:r>
            <a:endParaRPr b="0" lang="en-US" sz="1800" spc="-1" strike="noStrike">
              <a:solidFill>
                <a:srgbClr val="ffffff"/>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C:\Users\Meghan\AppData\Local\Microsoft\Windows\Temporary Internet Files\Low\Content.IE5\I24MOYH2\rainforests[1].jpg"/>
          <p:cNvPicPr/>
          <p:nvPr/>
        </p:nvPicPr>
        <p:blipFill>
          <a:blip r:embed="rId1"/>
          <a:stretch/>
        </p:blipFill>
        <p:spPr>
          <a:xfrm>
            <a:off x="2362320" y="304920"/>
            <a:ext cx="3952800" cy="3162240"/>
          </a:xfrm>
          <a:prstGeom prst="rect">
            <a:avLst/>
          </a:prstGeom>
          <a:ln w="0">
            <a:noFill/>
          </a:ln>
        </p:spPr>
      </p:pic>
      <p:sp>
        <p:nvSpPr>
          <p:cNvPr id="371" name="TextBox 3"/>
          <p:cNvSpPr/>
          <p:nvPr/>
        </p:nvSpPr>
        <p:spPr>
          <a:xfrm>
            <a:off x="1447920" y="3733920"/>
            <a:ext cx="58672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hère Oliv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alut! Mon voyage a été tellement amusant! Aujourd’hui a été mon dernière journée. Je suis allée à un tour du bois tropicale. J’ai vu les touristes, et je n’ai pas vu mes sœurs. Je n’ai jamais vu une chute. Je vous recommande ce tour. Je suis allée Apsara pour le petit- déjeuner. J’ai acheté un tasse. Aujourd’hui, j’ai eu faire les valises. J’ai été triste à partir. À dema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Meghan </a:t>
            </a:r>
            <a:endParaRPr b="0" lang="en-US" sz="1800" spc="-1" strike="noStrike">
              <a:solidFill>
                <a:srgbClr val="ffffff"/>
              </a:solidFill>
              <a:latin typeface="Arial"/>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3T13:31:35Z</dcterms:created>
  <dc:creator>hurleymeg</dc:creator>
  <dc:description/>
  <dc:language>en-US</dc:language>
  <cp:lastModifiedBy>Meghan</cp:lastModifiedBy>
  <dcterms:modified xsi:type="dcterms:W3CDTF">2012-02-05T22:53:30Z</dcterms:modified>
  <cp:revision>20</cp:revision>
  <dc:subject/>
  <dc:title>Des Cartes Postales</dc:title>
</cp:coreProperties>
</file>